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965835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0983-1E8D-448A-A79A-333188FB6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2034-85A9-4137-A6FD-9DC3941D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8B33-E292-4F0E-8CEC-16E679BF5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698A-4AB2-4E20-B124-2FF9ED02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4E1E-FD42-467B-B876-DB54E81C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6F30-BCC5-454C-9A0C-E2EC5C34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9A93-8FA9-42A2-85F0-9B459F71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61FB-55CB-4EC8-8F69-403123B8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0D7C-E0B5-430F-98BA-3002C4E4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8D4F-DC00-48C3-9DF4-D21778CB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4B5B-AACD-4245-ACE9-9BF9F051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1252-77F2-44BF-BF81-2A8085DB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78E8-2D2F-457F-9567-A373A98F6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295280"/>
            <a:ext cx="8001000" cy="5490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ISMICITY OF THE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(M&gt;3.5; Period: 1980-1999; Red: shallow; Green: intermediate; Blue: dee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09480" y="230040"/>
          <a:ext cx="83844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30040"/>
                    <a:ext cx="838440" cy="825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219320" y="2133720"/>
            <a:ext cx="6629400" cy="4419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6324480" y="586728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GN &amp; ROA data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228600"/>
            <a:ext cx="5715000" cy="832320"/>
          </a:xfrm>
          <a:prstGeom prst="rect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 FERNANDO NAVAL OBSERVATORY (RO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UNIVERSITY COMPLUTENSE OF MADRID (UC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 SEISMIC NET DEPLOYED IN COLLABORATION WITH GF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7772400" y="228600"/>
          <a:ext cx="708120" cy="8380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772400" y="228600"/>
                    <a:ext cx="708120" cy="8380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52280"/>
            <a:ext cx="8001000" cy="64616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ROA-UCM BB SEISMIC NET: WM 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6 BB Stations already deployed: 3 at South Iberia + 3 at Northern Afr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One station (MALA) is being deployed. A permanent OBS (ALBO) will be deployed within 200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Contacts with Morocco and Algeria institutes to deploy joint station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treckeisen STS-2 sensors;  Quanterra/ Earth data digitisers; PC Seiscom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Real time: SFS, MELI, CART, MAHO. In short: CEU. Next Future: PVLZ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BB net associated to GEOFON. SFER and MAHO associated to VEBN (ORFEUS) and MAHO associated to IR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Net Code (requested): WM (Western Mediterranean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ore info: mdavila@roa.es; pazos@roa.es; ebufornp@fis.ucm.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RUNetwo1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6858000" cy="384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18:09:32Z</dcterms:created>
  <dc:creator>JOSE MARTIN DAVILA</dc:creator>
  <dc:description/>
  <dc:language>en-US</dc:language>
  <cp:lastModifiedBy>José Martín Dávila</cp:lastModifiedBy>
  <cp:lastPrinted>2002-04-19T12:19:19Z</cp:lastPrinted>
  <dcterms:modified xsi:type="dcterms:W3CDTF">2005-09-29T09:51:42Z</dcterms:modified>
  <cp:revision>83</cp:revision>
  <dc:subject/>
  <dc:title>Sin título de diapositiva</dc:title>
</cp:coreProperties>
</file>